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DBF7-132B-4362-9ED0-B4A044E2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221F-6F0D-49E8-9BBF-7DDD8D3A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843-F7A8-4519-9886-178EE07D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0F8-59A1-44F6-B7D3-E3A19814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0550-9D1F-48E7-A3B4-7DA1D1CC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1015-28EB-4A17-8CD2-4F1B4E2A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09C-CC26-45E1-AA6D-1B4010A4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78DB-177A-446B-AE89-4161EAC6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0338-220D-4D1B-A9F9-93B28914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B9C6-734A-40AA-A782-A0D522DF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BDFE-F191-4C93-9D3C-E99DF544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74F4-F0AD-4569-A7B5-47B26CC6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F06E-970F-44C1-82B6-BA807A56ED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Пусть путь к знаниям озаряет  солнце! Успеха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C:\Users\школа\Desktop\001 (1).jpg"/>
          <p:cNvPicPr/>
          <p:nvPr/>
        </p:nvPicPr>
        <p:blipFill>
          <a:blip r:embed="rId1"/>
          <a:stretch/>
        </p:blipFill>
        <p:spPr>
          <a:xfrm>
            <a:off x="684360" y="1981080"/>
            <a:ext cx="7632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не  Декарт - французский математик, физик и философ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  впервые  признал отрицательные числа. Ввел координатную прямую (1637г). Положительные числа изображаются на числовой оси точками, лежащими вправо от начала, отрицательные – влево.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Содержимое 3" descr="C:\Users\школа\Desktop\i.jpg"/>
          <p:cNvPicPr/>
          <p:nvPr/>
        </p:nvPicPr>
        <p:blipFill>
          <a:blip r:embed="rId1"/>
          <a:stretch/>
        </p:blipFill>
        <p:spPr>
          <a:xfrm>
            <a:off x="5580000" y="2421000"/>
            <a:ext cx="329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900000" y="2421000"/>
            <a:ext cx="7632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йствия с рациональными числам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WordArt 5"/>
          <p:cNvSpPr txBox="1"/>
          <p:nvPr/>
        </p:nvSpPr>
        <p:spPr>
          <a:xfrm rot="18561600">
            <a:off x="1692360" y="4365360"/>
            <a:ext cx="933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5+7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WordArt 6"/>
          <p:cNvSpPr txBox="1"/>
          <p:nvPr/>
        </p:nvSpPr>
        <p:spPr>
          <a:xfrm rot="1715400">
            <a:off x="6516360" y="4581360"/>
            <a:ext cx="933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16 : 8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7"/>
          <p:cNvSpPr txBox="1"/>
          <p:nvPr/>
        </p:nvSpPr>
        <p:spPr>
          <a:xfrm rot="20598600">
            <a:off x="1468440" y="1061640"/>
            <a:ext cx="996840" cy="5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4 - 7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8"/>
          <p:cNvSpPr txBox="1"/>
          <p:nvPr/>
        </p:nvSpPr>
        <p:spPr>
          <a:xfrm rot="999600">
            <a:off x="6927480" y="1044720"/>
            <a:ext cx="996840" cy="73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5 - (-8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WordArt 9"/>
          <p:cNvSpPr txBox="1"/>
          <p:nvPr/>
        </p:nvSpPr>
        <p:spPr>
          <a:xfrm rot="21305400">
            <a:off x="4211640" y="1780920"/>
            <a:ext cx="1149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21 : (-3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539640" y="476280"/>
            <a:ext cx="8280360" cy="5905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Повторяем  правила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129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6"/>
          <p:cNvSpPr txBox="1"/>
          <p:nvPr/>
        </p:nvSpPr>
        <p:spPr>
          <a:xfrm>
            <a:off x="324000" y="404640"/>
            <a:ext cx="40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919840" y="71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932360" y="765000"/>
            <a:ext cx="36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4 +(-5) = -9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8 +(-5) = 1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- (-6) = 14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15 : (-3) = 5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· (-6) = 24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8 + 10 = -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16 + 9 = -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17 – (-9) = -8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9 + (-5) = 14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-8) · (-4) = -3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859280" y="692280"/>
            <a:ext cx="3241800" cy="5761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WordArt 10"/>
          <p:cNvSpPr txBox="1"/>
          <p:nvPr/>
        </p:nvSpPr>
        <p:spPr>
          <a:xfrm>
            <a:off x="7380360" y="1197000"/>
            <a:ext cx="504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13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WordArt 11"/>
          <p:cNvSpPr txBox="1"/>
          <p:nvPr/>
        </p:nvSpPr>
        <p:spPr>
          <a:xfrm>
            <a:off x="7308720" y="1638360"/>
            <a:ext cx="35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WordArt 12"/>
          <p:cNvSpPr txBox="1"/>
          <p:nvPr/>
        </p:nvSpPr>
        <p:spPr>
          <a:xfrm>
            <a:off x="7308720" y="2349360"/>
            <a:ext cx="43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24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WordArt 13"/>
          <p:cNvSpPr txBox="1"/>
          <p:nvPr/>
        </p:nvSpPr>
        <p:spPr>
          <a:xfrm>
            <a:off x="7308720" y="270828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WordArt 14"/>
          <p:cNvSpPr txBox="1"/>
          <p:nvPr/>
        </p:nvSpPr>
        <p:spPr>
          <a:xfrm>
            <a:off x="7323120" y="3065400"/>
            <a:ext cx="35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7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WordArt 15"/>
          <p:cNvSpPr txBox="1"/>
          <p:nvPr/>
        </p:nvSpPr>
        <p:spPr>
          <a:xfrm>
            <a:off x="7524720" y="3805200"/>
            <a:ext cx="43200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14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WordArt 16"/>
          <p:cNvSpPr txBox="1"/>
          <p:nvPr/>
        </p:nvSpPr>
        <p:spPr>
          <a:xfrm>
            <a:off x="7667640" y="4187880"/>
            <a:ext cx="360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2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WordArt 18"/>
          <p:cNvSpPr txBox="1"/>
          <p:nvPr/>
        </p:nvSpPr>
        <p:spPr>
          <a:xfrm>
            <a:off x="7337520" y="558972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684360" y="54936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 ошиб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cc"/>
                </a:solidFill>
                <a:uFillTx/>
                <a:latin typeface="Times New Roman"/>
              </a:rPr>
              <a:t>Правильно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 –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Times New Roman"/>
              </a:rPr>
              <a:t>присесть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br>
              <a:rPr sz="4000"/>
            </a:br>
            <a:r>
              <a:rPr b="1" lang="ru-RU" sz="4000" spc="-1" strike="noStrike" u="sng">
                <a:solidFill>
                  <a:srgbClr val="3333cc"/>
                </a:solidFill>
                <a:uFillTx/>
                <a:latin typeface="Times New Roman"/>
              </a:rPr>
              <a:t>Неправильно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 –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Times New Roman"/>
              </a:rPr>
              <a:t>встать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Запи2028.WAV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-49320" y="1606680"/>
                <a:ext cx="9175680" cy="24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9"/>
              <p:cNvSpPr txBox="1"/>
              <p:nvPr/>
            </p:nvSpPr>
            <p:spPr>
              <a:xfrm>
                <a:off x="130320" y="1573200"/>
                <a:ext cx="88516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13"/>
              <p:cNvSpPr txBox="1"/>
              <p:nvPr/>
            </p:nvSpPr>
            <p:spPr>
              <a:xfrm>
                <a:off x="109440" y="1487520"/>
                <a:ext cx="874080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5"/>
              <p:cNvSpPr txBox="1"/>
              <p:nvPr/>
            </p:nvSpPr>
            <p:spPr>
              <a:xfrm>
                <a:off x="0" y="1657440"/>
                <a:ext cx="9144000" cy="19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6"/>
              <p:cNvSpPr txBox="1"/>
              <p:nvPr/>
            </p:nvSpPr>
            <p:spPr>
              <a:xfrm>
                <a:off x="81000" y="1581120"/>
                <a:ext cx="8928000" cy="21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7"/>
              <p:cNvSpPr txBox="1"/>
              <p:nvPr/>
            </p:nvSpPr>
            <p:spPr>
              <a:xfrm>
                <a:off x="130320" y="1573200"/>
                <a:ext cx="8723160" cy="244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: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8"/>
              <p:cNvSpPr txBox="1"/>
              <p:nvPr/>
            </p:nvSpPr>
            <p:spPr>
              <a:xfrm>
                <a:off x="17640" y="1693800"/>
                <a:ext cx="9043920" cy="25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19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9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3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На столе лежат  карточки «Плюс», «Минус», «Ноль». «Плюс» желтого цв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(Жёлтый цвет – это цвет позитива, оптимизма, молодост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«Минус»  коричневого цв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(Коричневый цвет ассоциируется с ленью, кажется скучны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«Нуль»  белого цв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(Белый – цвет снега, молока. Белый цвет – нейтральный и чисты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4114440"/>
            <a:ext cx="7773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1619280" y="765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Рефлексия "Плюс – минус – нул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1258920" y="4508640"/>
            <a:ext cx="1324080" cy="1209600"/>
          </a:xfrm>
          <a:prstGeom prst="plus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6227640" y="4581360"/>
            <a:ext cx="1657440" cy="695520"/>
          </a:xfrm>
          <a:prstGeom prst="rect">
            <a:avLst/>
          </a:prstGeom>
          <a:solidFill>
            <a:srgbClr val="622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3708360" y="4508640"/>
            <a:ext cx="1150920" cy="1460520"/>
          </a:xfrm>
          <a:custGeom>
            <a:avLst/>
            <a:gdLst>
              <a:gd name="textAreaLeft" fmla="*/ 168480 w 1150920"/>
              <a:gd name="textAreaRight" fmla="*/ 982440 w 1150920"/>
              <a:gd name="textAreaTop" fmla="*/ 213840 h 1460520"/>
              <a:gd name="textAreaBottom" fmla="*/ 1246680 h 1460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1042920" y="1773360"/>
            <a:ext cx="7201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0a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урок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030a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6" name="Picture 4" descr="C:\Users\школа\Desktop\png-transparent-flower-retro-flower-plant-stem-flower-website.png"/>
          <p:cNvPicPr/>
          <p:nvPr/>
        </p:nvPicPr>
        <p:blipFill>
          <a:blip r:embed="rId1"/>
          <a:stretch/>
        </p:blipFill>
        <p:spPr>
          <a:xfrm>
            <a:off x="539640" y="3860640"/>
            <a:ext cx="1656000" cy="12970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3"/>
          <p:cNvSpPr/>
          <p:nvPr/>
        </p:nvSpPr>
        <p:spPr>
          <a:xfrm>
            <a:off x="2340000" y="3645000"/>
            <a:ext cx="61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«Несомненно,  вы сегодня сами приятно поразились, как много и хорошо умеете, так как старались постоянно работать над собой, ставили новые цели и стремились к их достижению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20-12-20T18:12:41Z</dcterms:modified>
  <cp:revision>80</cp:revision>
  <dc:subject/>
  <dc:title>PowerPoint Presentation</dc:title>
</cp:coreProperties>
</file>